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CC1-23D4-48D4-924D-4E8B861F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517-63BA-4A9E-91C7-B2DB0648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0E7-C727-4FB8-B70F-AE57E071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16B-2C7B-4107-8EC2-8B69DAD9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4B-E6DD-4FB4-BE26-AD3DEB16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23C-97DF-47E0-A182-BAF81EE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D7F-1A81-47FD-9F43-A97A791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210-A6C5-4BB8-8540-DBE031B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EDE-8C49-4826-BC21-472C8C0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7C6-74D5-49ED-9673-13F9D7C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E95-146B-4476-9ECA-D2BB2C4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473-8C21-40AA-B8A4-C4F7468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28DF-252C-45E7-8BF0-A098734C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09480"/>
            <a:ext cx="78483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r the island of knowledge, the longer the shoreline of wo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lph W. Sock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6:24:31Z</dcterms:created>
  <dc:creator>Aberdeen Public Schools</dc:creator>
  <dc:description/>
  <dc:language>en-US</dc:language>
  <cp:lastModifiedBy>Aberdeen Public Schools</cp:lastModifiedBy>
  <dcterms:modified xsi:type="dcterms:W3CDTF">2010-05-06T16:24:56Z</dcterms:modified>
  <cp:revision>2</cp:revision>
  <dc:subject/>
  <dc:title>Slide 1</dc:title>
</cp:coreProperties>
</file>